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F43-1457-4E18-AAFC-44DA9E97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021-A391-4073-8E2F-584B19BA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45D-BA46-47AA-BB80-CAD16C4D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A79-56A5-4942-B182-A9586D8A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AF3-8016-46FD-B290-D920310A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1EC-1FE6-4C01-98C1-23F458B6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3EF-F690-4ACE-92BD-6F3BFA76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7B0-524D-454E-90F7-51482FC7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1B3-4701-4F9B-A14C-03F2D484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124-34F0-4A3F-A16D-DF7BDB3F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B66-4426-45FB-8AE6-844EAAD9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472-AAA9-43F8-AA7E-F0EABA80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131E-15CC-43C8-B1B5-91E74F7A8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Times New Roman"/>
              </a:rPr>
              <a:t>Витамины</a:t>
            </a:r>
            <a:endParaRPr b="0" lang="en-US" sz="9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4581360"/>
            <a:ext cx="554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ыполнила: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етрова Наст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ученица 9 А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41497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Творческая работа по анатом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Витамины группы 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С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235160"/>
            <a:ext cx="48769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Содержится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шиповнике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черной смородине, зеленых овощах, квашеной капусте, ягодах, зеленых овощах, помидорах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Полезен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Для стимуляции системы сопротивляемости организма, помогает усвоению железа, поддерживает уровень гемоглобина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Способствует усвоению организмом железа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Для ускорения заживления после операций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Способствует снижению уровня холестерина в крови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Предохраняет от многих вирусных и бактериальных инфекций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Действует как натуральное слабительное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Помогает при лечении простудных заболеваниях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Уменьшает эффекты воздействия различных аллергенов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Grande Regular"/>
                <a:ea typeface="Times New Roman"/>
              </a:rPr>
              <a:t>На заметку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Times New Roman"/>
              </a:rPr>
              <a:t>- переизбыток опасен для людей, болеющих подагрой и отложением солей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Times New Roman"/>
              </a:rPr>
              <a:t>- расходуется гораздо быстрее при стрессах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Times New Roman"/>
              </a:rPr>
              <a:t>- курильщики и престарелые люди имеют повышенную потребность в витамине С (одна выкуренная сигарета разрушает 25 мг С)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2514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Витамин группы 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143000"/>
            <a:ext cx="4495680" cy="62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держится: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зеленых овощах, яйцах, молоке, растительном масле, пророщенном зерне, завязи пшеницы, соевых бобах, броколли, брюссельской капусте, листовой зелени, шпинате, обогащенной муке, цельных злаках, шоколад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ен:</a:t>
            </a:r>
            <a:br>
              <a:rPr sz="10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поддержания работоспособности мышц, сосудистой и эндокринной систем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щищает от сердечных недугов и нервных расстройств, от вреда, наносимого курением и загрязненным воздухом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ет сосуды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щищает легкие от загрязненного воздуха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упреждает появление кровяных тромбов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йствуя как мочегонное средство, может понижать кровяное давление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метку:</a:t>
            </a:r>
            <a:br>
              <a:rPr sz="10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тамины Е и А эффективно употреблять в сочетании, они взаимно усиливают действие друг друга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рушается от кислорода, при замерзании, обработке пищи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еловек на диете, с высоким содержанием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насыщенных масел, - то может понадобиться витамин Е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2178" t="0" r="0" b="1786"/>
          <a:stretch/>
        </p:blipFill>
        <p:spPr>
          <a:xfrm>
            <a:off x="5334120" y="1752480"/>
            <a:ext cx="342396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Витамин группы 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Д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219320"/>
            <a:ext cx="44355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Содержится:</a:t>
            </a:r>
            <a:r>
              <a:rPr b="0" lang="en-US" sz="10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в морской рыбе, морской капусте, молочных продуктах, рыбьем жире, сардинах, сельди, лососе, тунц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Полезен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Для укрепления костей, удержания влаги клетками, улучшения состояния кожного покрова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Должным образом утилизирует кальций и фосфор, необходимые для укрепления зубов и костей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При совместном приеме с витаминами А и С помогает в профилактике простудных заболеваний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Помогает в лечении конъюнктивитов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Помогает при рахите, остеопороз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Grande Regular"/>
                <a:ea typeface="Times New Roman"/>
              </a:rPr>
              <a:t>На заметку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Times New Roman"/>
              </a:rPr>
              <a:t>- В витамине Д человек нуждается больше всего в несолнечную погоду, потому что этот витамин синтезируется организмом под воздействием солнечных лучей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Times New Roman"/>
              </a:rPr>
              <a:t>- Рабочие ночных смен, монахини и другие люди, чья постоянно носимая одежда предохраняет их от воздействия солнечных лучей, должны увеличить дозу витамина 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340080" cy="4343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893880"/>
            <a:ext cx="868680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11111"/>
                </a:solidFill>
                <a:latin typeface="Verdana"/>
              </a:rPr>
              <a:t>В</a:t>
            </a:r>
            <a:r>
              <a:rPr b="1" lang="ru-RU" sz="1400" spc="-1" strike="noStrike">
                <a:solidFill>
                  <a:srgbClr val="111111"/>
                </a:solidFill>
                <a:latin typeface="Verdana"/>
                <a:ea typeface="Arial Unicode MS"/>
              </a:rPr>
              <a:t>итамины - это</a:t>
            </a:r>
            <a:r>
              <a:rPr b="0" lang="ru-RU" sz="1200" spc="-1" strike="noStrike">
                <a:solidFill>
                  <a:srgbClr val="111111"/>
                </a:solidFill>
                <a:latin typeface="Verdana"/>
                <a:ea typeface="Arial Unicode MS"/>
              </a:rPr>
              <a:t>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1111"/>
                </a:solidFill>
                <a:latin typeface="Verdana"/>
                <a:ea typeface="Arial Unicode MS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1111"/>
                </a:solidFill>
                <a:latin typeface="Verdana"/>
                <a:ea typeface="Arial Unicode MS"/>
              </a:rPr>
              <a:t>Все витаминные вещества условно подразделяют на собственн</a:t>
            </a:r>
            <a:r>
              <a:rPr b="0" lang="ru-RU" sz="1200" spc="-1" strike="noStrike">
                <a:solidFill>
                  <a:srgbClr val="111111"/>
                </a:solidFill>
                <a:latin typeface="Verdana"/>
              </a:rPr>
              <a:t>ые</a:t>
            </a:r>
            <a:r>
              <a:rPr b="0" lang="ru-RU" sz="1200" spc="-1" strike="noStrike">
                <a:solidFill>
                  <a:srgbClr val="111111"/>
                </a:solidFill>
                <a:latin typeface="Verdana"/>
                <a:ea typeface="Arial Unicode MS"/>
              </a:rPr>
              <a:t> витамины и витаминоподобны</a:t>
            </a:r>
            <a:r>
              <a:rPr b="0" lang="ru-RU" sz="1200" spc="-1" strike="noStrike">
                <a:solidFill>
                  <a:srgbClr val="111111"/>
                </a:solidFill>
                <a:latin typeface="Verdana"/>
              </a:rPr>
              <a:t>е</a:t>
            </a:r>
            <a:r>
              <a:rPr b="0" lang="ru-RU" sz="1200" spc="-1" strike="noStrike">
                <a:solidFill>
                  <a:srgbClr val="111111"/>
                </a:solidFill>
                <a:latin typeface="Verdana"/>
                <a:ea typeface="Arial Unicode MS"/>
              </a:rPr>
              <a:t> соединения, которые по своим биологическим свойствам сходны с витаминами, но требуются обычно в более значительных количествах. Кроме того, недостаточность витаминоподобных веществ наблюдается крайне редко, так как их содержание в повседневной пище таково, что даже в случае очень несбалансированного питания человек получает почти все из них в достаточном объем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Открытие витамин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676520"/>
            <a:ext cx="3352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Times New Roman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9880" y="1981080"/>
            <a:ext cx="4953240" cy="3962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Общая характеристика витамин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62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752480"/>
            <a:ext cx="3124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 Regular"/>
                <a:ea typeface="Times New Roman"/>
              </a:rPr>
              <a:t>Что такое витамины? Витамины являются составной частью ферментов, без которых не может реализоваться ни один биохимический процесс в клетках нашего организма. Природа витаминов различна. Некоторые из них представлены не одним, а несколькими родственными соединения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5181480" cy="403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Витамин группы 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09480"/>
            <a:ext cx="7467480" cy="64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111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111111"/>
                </a:solidFill>
                <a:latin typeface="Lucida Sans Typewriter"/>
                <a:ea typeface="Times New Roman"/>
              </a:rPr>
              <a:t>Витамин</a:t>
            </a:r>
            <a:r>
              <a:rPr b="0" lang="en-US" sz="1400" spc="-1" strike="noStrike">
                <a:solidFill>
                  <a:srgbClr val="111111"/>
                </a:solidFill>
                <a:latin typeface="Times New Roman"/>
              </a:rPr>
              <a:t> А</a:t>
            </a:r>
            <a:r>
              <a:rPr b="0" lang="en-US" sz="1400" spc="-1" strike="noStrike">
                <a:solidFill>
                  <a:srgbClr val="111111"/>
                </a:solidFill>
                <a:latin typeface="Lucida Sans Typewriter"/>
                <a:ea typeface="Times New Roman"/>
              </a:rPr>
              <a:t> содержатся в пище в виде предшественников - провитаминов, из которых наш организм синтезирует биологически активные формы витаминов.</a:t>
            </a:r>
            <a:r>
              <a:rPr b="0" lang="en-US" sz="1400" spc="-1" strike="noStrike">
                <a:solidFill>
                  <a:srgbClr val="111111"/>
                </a:solidFill>
                <a:latin typeface="Times New Roman"/>
              </a:rPr>
              <a:t>Его </a:t>
            </a:r>
            <a:r>
              <a:rPr b="0" lang="en-US" sz="1400" spc="-1" strike="noStrike">
                <a:solidFill>
                  <a:srgbClr val="111111"/>
                </a:solidFill>
                <a:latin typeface="Lucida Sans Typewriter"/>
                <a:ea typeface="Times New Roman"/>
              </a:rPr>
              <a:t>значительная часть синтезируется тканями организма из каротина - провитамина А, который мы получаем с продуктами растительного происхожд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Содержится:</a:t>
            </a: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 в сыре, молоке, твороге, яйцах, рыбе, тыкве, моркови, облепихе, печени, сливочном масле, масле из печени рыб (рыбий жир), зеленых и желтых овощах, желтых фрукт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Полезен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- для зрения и регенерации костей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- предохраняет от куриной слепоты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- способствует формированию зрительного пурпура (родопсина) в глазах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- повышает сопротивляемость органов дыхания инфекциям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- сохраняет наружные кожные покровы здоровыми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- способствует росту и укреплению костей, здоровью кожи, волос, зубов и десен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- при наружном применении помогает при лечении прыщей, фурункулов, карбункулов и язв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- помогает в лечении эмфиземы и гипертирео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На заметку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- алкоголь в любом количестве препятствует всасыванию витамина А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- витамин А лучше всего работа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в сочетании с В-комплексом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витамином D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витамином Е, кальцием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фосфором и цинком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- витамин А также предохраня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витамин С от окисления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- если человек принимает препараты, снижающие холестерин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то понижается всасываемость витамина 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Typewriter"/>
                <a:ea typeface="Arial Unicode MS"/>
              </a:rPr>
              <a:t>и его необходимо принимать больш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9336" b="0"/>
          <a:stretch/>
        </p:blipFill>
        <p:spPr>
          <a:xfrm>
            <a:off x="5334120" y="4368960"/>
            <a:ext cx="3504960" cy="2333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Витамины группы 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В</a:t>
            </a:r>
            <a:br>
              <a:rPr sz="4400"/>
            </a:b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В1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057400"/>
            <a:ext cx="8610480" cy="38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Содержится:</a:t>
            </a:r>
            <a:r>
              <a:rPr b="0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 в сухих дрожжах, рисовой шелухе, цельной пшенице, овсяном толокне, арахисе, свинине, большинстве овощей, отрубях, молоке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Полезен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росту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лучшает переваривание пищи, особенно углевод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ает умственные способности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рмализует работу нервной системы, мышц и сердца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могает при морской болезни и укачивании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ьшает зубную боль после стоматологических вмешательств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могает при лечении опоясывающего лишая.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метку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бые излишки выделяются и не запасаются в организме, поэтому он должен восполняться ежедневно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требность в нем увеличивается во время болезни, стресса и оперативного вмешательства. Имеет слабый мочегонный эффект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тамин В1 легко разрушается при тепловой обработке.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5053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Витамины группы 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В </a:t>
            </a:r>
            <a:br>
              <a:rPr sz="4400"/>
            </a:b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В2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19320"/>
            <a:ext cx="8915400" cy="38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Содержится:</a:t>
            </a:r>
            <a:r>
              <a:rPr b="0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 в молоке, печени, почках, дрожжах, сыре, листовых зеленых овощах, рыбе, яйцах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Полезен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Способствует росту человека.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Сохраняет кожу, ногти, волосы.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Помогает залечивать язвочки рта, губ и языка.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Улучшает зрение.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Вместе с другими веществами участвует в обмене углеводов, жиров и белков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На заметку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Растворим в воде, легко всасывается.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Не накапливается в организме и должен постоянно восполняться.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Для беременных и кормящих женщин доза должна быть увеличена.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Потребность увеличивается в стрессовых ситуациях.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Большая вероятность возникновения дефицита этого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витамина, если человек находится на длительной строгой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диете из-за язвенной болезни или диабет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4038480"/>
            <a:ext cx="3962520" cy="266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Витамины группы 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В</a:t>
            </a:r>
            <a:br>
              <a:rPr sz="4400"/>
            </a:b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В6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19320"/>
            <a:ext cx="8153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держится: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ивные дрожжи, пшеничные отруби, завязь пшеницы, печень, почки, сердце, дыня, капуста, черная патока, молоко, яйца, говяди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езен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Необходим для образования антител и красных кровяных клеток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Способствует должному усвоению белка и жира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Способствует превращению триптофана - незаменимой аминокислоты в ниацин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Помогает предотвращать различные нервные и кожные расстройства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Облегчает состояние тошноты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Способствует правильному синтезу нуклеиновых кислот, препятствующих старению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Уменьшает ночные спазмы мышц, судороги икроножных мышц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онемение рук, определенные формы невритов конечностей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Действует как натуральное мочегонное средств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заметку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Люди, употребляющие белок в большом количеств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уждаются в этом витамине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Люди, страдающие артритом, получающие леч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нициллином, должны принимать добавки этого витами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Витамины группы 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В</a:t>
            </a:r>
            <a:br>
              <a:rPr sz="4400"/>
            </a:b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В12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2133720"/>
            <a:ext cx="80931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Содержится:</a:t>
            </a: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 печень, говядина, свинина, яйца, молоко, сыр, поч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Полезен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Предотвращает появление анемии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У детей способствует росту и улучшению аппетита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Увеличивает энергию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Поддерживает нервную систему в здоровом состоянии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Снижает раздражительность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Улучшает концентрацию, память и равновес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На заметку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Единственный витамин, который содержит незаменимые минеральные элементы и эффективен в очень малых дозах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Если человек - вегетарианец и исключил из своего рациона яйца и молочные продукты, то ему необходимы добавки В12. В сочетании с фолиевой кислотой, витамин В12 может оказаться самым эффективным средством для восстановления жизненных сил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5880" y="838080"/>
            <a:ext cx="2733840" cy="358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Витамины группы 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В</a:t>
            </a:r>
            <a:br>
              <a:rPr sz="4400"/>
            </a:b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В17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057400"/>
            <a:ext cx="5029200" cy="36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Содержится:</a:t>
            </a: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 небольшое количество обнаружено в косточках абрикосов, яблок, вишен, персиков, слив и гладких персик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Полезен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Arial Unicode MS"/>
              </a:rPr>
              <a:t>- Предупреждает раковые заболев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Grande Regular"/>
                <a:ea typeface="Times New Roman"/>
              </a:rPr>
              <a:t>На заметку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Times New Roman"/>
              </a:rPr>
              <a:t>- Несколько косточек абрикоса, съеденные в течение дня, но ни в коем случае ни за один прием, могут быть хорошей профилактической дозой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 Regular"/>
                <a:ea typeface="Times New Roman"/>
              </a:rPr>
              <a:t>- Прежде, чем употреблять В17, проконсультируйтесь у врача. Широко рекламируется, как средство от рака, но отвергается Администрацией по пищевым продуктам и лекарствам , на основании того, что может быть ядовитым из-за содержания цианид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5053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47:14Z</dcterms:created>
  <dc:creator>Анастасия</dc:creator>
  <dc:description/>
  <dc:language>en-US</dc:language>
  <cp:lastModifiedBy>Малышева</cp:lastModifiedBy>
  <dcterms:modified xsi:type="dcterms:W3CDTF">2011-01-26T17:50:37Z</dcterms:modified>
  <cp:revision>4</cp:revision>
  <dc:subject/>
  <dc:title>Витамины</dc:title>
</cp:coreProperties>
</file>